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D9AD-BFC6-44C0-BAB0-DF1D6F57F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5E37-D09D-42F0-B4E6-D66346C6BED6}" type="slidenum">
              <a:rPr b="0" lang="ru-RU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0DA-B458-4885-BDFD-2DB9F3C7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5D9-97A3-425C-A0BC-B8A95F10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2C3-D105-4CA2-963E-25A63E3F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057-D570-4799-95B8-1B97FE1B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AF8-C6CA-43EE-BAD4-A01E0A5D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AFA-170B-4B08-972F-DA9A15E5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0D0-50FA-4D65-B159-6BA2D0BD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099-2062-4216-80E6-071F8149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532-481B-4ADB-8E72-4DF66F48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9AA-6A22-4DDF-874D-5D51260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A53-86B4-451C-8E61-281CDAA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013-C51B-4F0B-9779-6BF19AA1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5423-EE41-4F50-B78B-6F82178E9C8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Arial"/>
              </a:rPr>
              <a:t>Урок внеклассного чтен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10253f"/>
                </a:solidFill>
                <a:latin typeface="Arial"/>
              </a:rPr>
              <a:t>  А.И. Куприн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10253f"/>
                </a:solidFill>
                <a:latin typeface="Arial"/>
              </a:rPr>
              <a:t>«Белый пудель» </a:t>
            </a: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53.jpg"/>
          <p:cNvPicPr/>
          <p:nvPr/>
        </p:nvPicPr>
        <p:blipFill>
          <a:blip r:embed="rId1"/>
          <a:stretch/>
        </p:blipFill>
        <p:spPr>
          <a:xfrm rot="21114600">
            <a:off x="539640" y="691920"/>
            <a:ext cx="382932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Рисунок 2" descr="1229169376_slon.jpg"/>
          <p:cNvPicPr/>
          <p:nvPr/>
        </p:nvPicPr>
        <p:blipFill>
          <a:blip r:embed="rId2"/>
          <a:stretch/>
        </p:blipFill>
        <p:spPr>
          <a:xfrm rot="304200">
            <a:off x="4917960" y="1065240"/>
            <a:ext cx="3756240" cy="47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b36612.jpg"/>
          <p:cNvPicPr/>
          <p:nvPr/>
        </p:nvPicPr>
        <p:blipFill>
          <a:blip r:embed="rId1"/>
          <a:stretch/>
        </p:blipFill>
        <p:spPr>
          <a:xfrm rot="489000">
            <a:off x="5320800" y="1163520"/>
            <a:ext cx="2971800" cy="467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2" descr="00042185_coverr.jpg"/>
          <p:cNvPicPr/>
          <p:nvPr/>
        </p:nvPicPr>
        <p:blipFill>
          <a:blip r:embed="rId2"/>
          <a:stretch/>
        </p:blipFill>
        <p:spPr>
          <a:xfrm rot="21331800">
            <a:off x="948960" y="775800"/>
            <a:ext cx="3240000" cy="50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00042165_coverr.jpg"/>
          <p:cNvPicPr/>
          <p:nvPr/>
        </p:nvPicPr>
        <p:blipFill>
          <a:blip r:embed="rId1"/>
          <a:stretch/>
        </p:blipFill>
        <p:spPr>
          <a:xfrm>
            <a:off x="2674800" y="814320"/>
            <a:ext cx="3992760" cy="527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684360" y="83664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читай рассказ в сокращении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апиши в тетрадь автора произведения и название рассказа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апиши, чему учит рассказ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дбери пословицу, которая подходит к данному рассказу, запиши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26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Calibri"/>
              </a:rPr>
              <a:t>Что в жизни</a:t>
            </a:r>
            <a:br>
              <a:rPr sz="6000"/>
            </a:br>
            <a:r>
              <a:rPr b="1" i="1" lang="ru-RU" sz="6000" spc="-1" strike="noStrike">
                <a:solidFill>
                  <a:srgbClr val="800000"/>
                </a:solidFill>
                <a:latin typeface="Calibri"/>
              </a:rPr>
              <a:t> не продается</a:t>
            </a:r>
            <a:br>
              <a:rPr sz="6000"/>
            </a:br>
            <a:r>
              <a:rPr b="1" i="1" lang="ru-RU" sz="6000" spc="-1" strike="noStrike">
                <a:solidFill>
                  <a:srgbClr val="800000"/>
                </a:solidFill>
                <a:latin typeface="Calibri"/>
              </a:rPr>
              <a:t> и не покупается?</a:t>
            </a: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Домашнее задание 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(до 21 апреля)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755640" y="256536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1. Посмотри фильм «Белый пудель (по возможности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Прочитай рассказ полностью. Запиши в читательский дневник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(пришли страницу дневника  учителю на проверку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3706920" y="1292400"/>
            <a:ext cx="6089400" cy="4054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1008534-A0003BF9.jpg"/>
          <p:cNvPicPr/>
          <p:nvPr/>
        </p:nvPicPr>
        <p:blipFill>
          <a:blip r:embed="rId2"/>
          <a:stretch/>
        </p:blipFill>
        <p:spPr>
          <a:xfrm>
            <a:off x="357120" y="857160"/>
            <a:ext cx="3759120" cy="533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857160" y="429264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Иванович Куприн родился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6 августа (7 сентября) 1870 года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захолустном городке Наровчате Пензенской губернии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Рисунок 2" descr="photo-29.jpg"/>
          <p:cNvPicPr/>
          <p:nvPr/>
        </p:nvPicPr>
        <p:blipFill>
          <a:blip r:embed="rId1"/>
          <a:stretch/>
        </p:blipFill>
        <p:spPr>
          <a:xfrm>
            <a:off x="4067280" y="857160"/>
            <a:ext cx="4875120" cy="34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Рисунок 3" descr="fp19.jpg"/>
          <p:cNvPicPr/>
          <p:nvPr/>
        </p:nvPicPr>
        <p:blipFill>
          <a:blip r:embed="rId2"/>
          <a:stretch/>
        </p:blipFill>
        <p:spPr>
          <a:xfrm>
            <a:off x="155520" y="692280"/>
            <a:ext cx="354348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29040" y="12142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тца своего, умершего от холеры, когда мальчику был всего год, Куприн не помнил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1874 году он переезжает с матерью в Москву и поселяется в общей палате вдовьего дома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(Сиротский пансион)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Рисунок 2" descr="kuprin.jpg"/>
          <p:cNvPicPr/>
          <p:nvPr/>
        </p:nvPicPr>
        <p:blipFill>
          <a:blip r:embed="rId1"/>
          <a:stretch/>
        </p:blipFill>
        <p:spPr>
          <a:xfrm>
            <a:off x="539640" y="1557360"/>
            <a:ext cx="305928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929120" y="1071720"/>
            <a:ext cx="3857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Любовь Алексеевна Куприна, так звали его мать, урожденная княжна Куланчакова, "обладала сильным, непреклонным характером и высоким благородством"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" name="Picture 2" descr="Любовь Алексеевна Куприна — мать писателя"/>
          <p:cNvPicPr/>
          <p:nvPr/>
        </p:nvPicPr>
        <p:blipFill>
          <a:blip r:embed="rId1"/>
          <a:stretch/>
        </p:blipFill>
        <p:spPr>
          <a:xfrm>
            <a:off x="285840" y="928800"/>
            <a:ext cx="437652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780000" y="708120"/>
            <a:ext cx="536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1876 году из-за тяжелого материального положения Любовь Алексеевна была вынуждена отдать сына в сиротское училище. Семилетний мальчик надел первую в своей жизни форму - парусиновые панталоны и парусиновую рубашку, обшитую вокруг ворота и вокруг рукавов форменной кумачовой лентой". Казенная обстановка причиняла мальчику жестокие страдания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Рисунок 2" descr="1998229.jpg"/>
          <p:cNvPicPr/>
          <p:nvPr/>
        </p:nvPicPr>
        <p:blipFill>
          <a:blip r:embed="rId1"/>
          <a:stretch/>
        </p:blipFill>
        <p:spPr>
          <a:xfrm>
            <a:off x="179280" y="708120"/>
            <a:ext cx="3429000" cy="567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840" y="6429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 1880 году он сдал вступительные экзамены во Вторую московскую военную гимназию, которая два года спустя была преобразована в кадетский корпус. И снова форма: "Чёрная суконная курточка, без пояса, с синими погонами, восемью медными пуговицами в один ряд и красными петлицами на воротнике"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2" name="Рисунок 2" descr="kuprin_molod.jpg"/>
          <p:cNvPicPr/>
          <p:nvPr/>
        </p:nvPicPr>
        <p:blipFill>
          <a:blip r:embed="rId1"/>
          <a:stretch/>
        </p:blipFill>
        <p:spPr>
          <a:xfrm>
            <a:off x="4896000" y="828720"/>
            <a:ext cx="378432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258920" y="4595760"/>
            <a:ext cx="702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же в кадетском корпусе родилась настоящая, глубокая любовь будущего писателя к литературе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Рисунок 2" descr="kabinet.jpg"/>
          <p:cNvPicPr/>
          <p:nvPr/>
        </p:nvPicPr>
        <p:blipFill>
          <a:blip r:embed="rId1"/>
          <a:stretch/>
        </p:blipFill>
        <p:spPr>
          <a:xfrm>
            <a:off x="2124000" y="907920"/>
            <a:ext cx="4864320" cy="367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buninu.jpg"/>
          <p:cNvPicPr/>
          <p:nvPr/>
        </p:nvPicPr>
        <p:blipFill>
          <a:blip r:embed="rId1"/>
          <a:stretch/>
        </p:blipFill>
        <p:spPr>
          <a:xfrm>
            <a:off x="714240" y="1000080"/>
            <a:ext cx="330696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55640" y="1484280"/>
            <a:ext cx="4537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АЛЕКСАНДР ИВАНОВИЧ КУПРИН НАПИСАЛ  БОЛЕЕ 30 РАССКАЗОВ </a:t>
            </a:r>
            <a:br>
              <a:rPr sz="4000"/>
            </a:b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О ЖИВОТНЫХ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6:35:48Z</dcterms:created>
  <dc:creator>Admin</dc:creator>
  <dc:description/>
  <dc:language>en-US</dc:language>
  <cp:lastModifiedBy>Наташа</cp:lastModifiedBy>
  <dcterms:modified xsi:type="dcterms:W3CDTF">2020-04-13T05:51:19Z</dcterms:modified>
  <cp:revision>23</cp:revision>
  <dc:subject/>
  <dc:title>Слайд 1</dc:title>
</cp:coreProperties>
</file>